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CDE-ABA3-4F62-BFAE-EB2A8D98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1AC-A86D-4832-AE06-70FA08D5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AC1-F0B8-4122-B20A-D16FCAE5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F25-38B4-43A8-AE32-1395ED98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CB6-66C1-42F2-8A0E-F966F57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BF8F-5F19-4A39-98D0-9C48E53D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0D7E-3A41-41E0-BA24-56D28E1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4798-40A5-4C8F-9984-0687CFA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1A20-0D22-4914-9B48-C1BC34E7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EA4-6993-467C-89EB-7A64E50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ECD-74DA-46AE-A280-5DE1B4D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CB3-A991-4A97-8C74-783BB26C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F288-7D2B-41E3-A1FE-A8D40902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98CE-69B1-445B-9EC6-9176480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D9E-1BF2-49C9-B4D6-6D31A4E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2CE3-43B0-43F2-81F8-F5CB184E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CDC2-082F-496C-8C56-D4EF1549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CCD9-BFEF-490B-8F2B-F6B2F00A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9046-078F-4525-8A1E-05DE3DF3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973D-4236-4B6E-BBD5-0569AFF3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00D0-E8E6-4D02-BF49-DE85C57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208C-4D73-4869-A1AE-7C7BF911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6B2-AF58-4EE2-B000-E323AFD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5F76-D375-4D18-86B3-7F88ADBA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7C13-C23F-41B8-8E86-11ADD90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A0689-7991-4C23-91A3-DEAE210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5622-E58F-43A6-ABDD-EDEDDDF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7DA9-1A54-4691-8044-A7E7ACF9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5E9A-C703-4C1B-8947-33893CB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4E56-2207-4FE5-BEA6-B902EC48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A7DC-3629-4282-BBF4-E852337E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0AF6-9D6A-4E36-8EAA-0E9C429E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DABD-11B9-456B-A950-D9B1FD12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B68-C899-4041-AF30-1B5A5D44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470D-97DD-47E4-8A79-E9FE574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EA1F-6837-44D5-A226-7B8D413E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DE4A-6354-4A04-8519-82B4D553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A6DA-9009-4949-8515-F62081F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A08A-CC95-44A2-951F-F7CA934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9AF7-4215-4C5A-95CB-802BB47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6F88-318E-47FA-8849-F516C9B2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7D93-8DCE-4D32-9EF7-2B3A8852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0670-8657-447B-9758-34990390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919-2D50-4052-B219-A60E7982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765-6C65-483E-BA86-32225DBC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330-139D-4457-9436-E5E769D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3B9-5A61-404E-953A-702716E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88C-7B5C-4B70-9ACC-1FC5E7B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7493-EA1F-421E-B46E-D8DB7C63B16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434B-1BA5-4930-A60B-176D7EF971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1099-CE20-4AE9-8102-1AEED8FF7B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B28-C1C1-4441-BCFA-3103899BC1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8516880" cy="2670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914640"/>
            <a:ext cx="7854840" cy="2028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tation by Tom O’Conn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YSICA Installation Lunche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uesday, May 10, 2011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MB provides major central guid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rcular A-123 sets the framework, and has evolved over the years in response to changes in Federal laws and other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al departments and agencies “tailor” requirements  via policies , regulations and instru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MB Circular’s Added Appendices in Recent Yea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nternal Control over Financial Report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 CFO Act, SOX impetu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mproving the Management of Government Charge Card Program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udit findings, adverse public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Requirements for Effective Measurement and Remediation of Remediation of Improper Payment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udit findings, new laws, 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lettered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emorandum on Conducting Acquisition Assessment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big $$, experi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sults of Enhanced Internal Control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of 24 major departments and agencies now getting unqualified opinions, and less “material weaknesse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vigilance over misuse of purchase cards, and (while a subjective judgment) less adverse publicity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law, Improper Payment Reduction and Recovery Act, in 2010, adds “teeth” and sets specific dollar targets for re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quisition issues still bear watch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ave Enhanced Internal Controls led to Greater Public Confidenc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arently not!  It’s our cultur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gets in the new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polls show about the public’s  views on gover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government managers and auditors too “silent” about enhanced internal contr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e Man’s View in 201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together, managers and auditors have made great strides in initiatives for enhanced internal control, and there are real results.   Let’s shift the paradigm a bit, and, for the reputation of much maligned governments and the long-range good of the country, let’s “accentuate the positive” and, while looking for improvement, get the full story out!”   Tom O’Conn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Sunset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Questions and Answers</a:t>
            </a:r>
            <a:br>
              <a:rPr sz="49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Enhanced Internal Control Save the Government….and Does Anybody Know or Care?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m O’Connor’s Thoughts . .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couple random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planning a very large shipment of styro-foam,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what do you use to pack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policeman stops a mime on the street, does the policeman really need to say, “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ou have the right to remain silent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ree Forces for Enhanced Internal Control in Govern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 Organizations’ “foc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ification “stamped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ws, Policies, Initia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fessional Organizations Focus on Enhanced Internal Contro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C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YS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fessional Certifications in Government Add IC Empha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GF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G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ree governmental levels are acti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l--exam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e—exam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deral—”across the board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ederal Legislation has a Long History of “Pushing” Internal Contro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30477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50 la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2 Federal Managers Financial Integrity Act (the Integrity Act) still a “landmark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1990-today, a “statutory framework” has evolved, e.g. CFO Act and the Results Act, but many, many more (internal control i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ervasive consider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ederal Financial Managers Integrity Act (FMFIA), or the Integrity Ac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tion 2—Annual Statements of Assurance go to the President and the Congress  (GAO sets internal control standar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tion 4—Annual reports state whether financial management systems conform to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requirem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et by OMB and GS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1:49:09Z</dcterms:created>
  <dc:creator>Tom O'Connor</dc:creator>
  <dc:description/>
  <dc:language>en-US</dc:language>
  <cp:lastModifiedBy>Mark B. Mitchell</cp:lastModifiedBy>
  <dcterms:modified xsi:type="dcterms:W3CDTF">2011-05-16T18:27:56Z</dcterms:modified>
  <cp:revision>19</cp:revision>
  <dc:subject/>
  <dc:title>Slide 1</dc:title>
</cp:coreProperties>
</file>