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18C-A261-474B-8142-1BCB65F7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FC45-7F0D-4793-84C8-EA2936F3C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1E3-EFC0-4E19-BD68-60B6A9FD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A7B-0D63-4D88-80FA-8A4A3EE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3E9-A3DB-4FAA-A0D4-C3F21215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E3D-EFCE-457B-8A06-B5D212CB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A92-CCBC-4CB8-9E18-394A337B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39CD-4B9F-4194-9D8A-137AD10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C01-4F22-490A-B070-BEC1B291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07D-7AE4-4894-BDB4-8A51C5AC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C207-CF58-4B82-AE9C-060556C2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FC27-C6E5-46B1-9CCB-278B10A0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008-8F4C-4AF3-B876-6258E082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904-67A7-4923-9419-AA7E01F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8A78-4ED1-4CDF-8974-B3F44002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A62-CF1D-4526-BC6E-E69660A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5DA-9584-413E-B1E9-F4544C80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2DF-49B0-4564-80C3-6E0BA22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FD48-41BB-490A-9EC9-FCD08DA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DD6F-A191-4F7A-A6DA-A81A3B88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6041-3430-49C9-A213-CD133EC0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945B-DC1C-4578-85BD-B8B5749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54C2-3662-4A05-B879-489F3E0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50F6-A8D8-4A05-819A-ED1B627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4E5-80BA-4533-915C-7E7AAA9B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B0F0-BEB3-4E3B-9CAC-2BD8CE8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76FE-E326-44A9-AF03-0A832B5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D58C-6A95-4002-B22F-7F5912F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933D-F9FF-42A5-BCB0-82E9A59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26D1-9254-4D24-8E83-1059D3D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BA5E-9485-486F-9C47-31622888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1345-636B-4749-B3CE-213DC63F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4C6C-1B46-4CBE-8FBA-F072DB17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5D5E-5712-44F3-91B3-8E623935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B213-ECE0-44EB-89DF-4C3A3A2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D3A-5E9E-4248-8467-5FEDA88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283C-1593-42F4-9CE2-CAD22BF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2F31-D876-4EFF-8DD9-ADB9C6BC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A21C-EEAA-469D-81E4-9DD8ED1F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F0F1-90F9-4D52-90E9-728E410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9563-7460-48EB-9D95-35C8A44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6FC3-C37F-412F-87E2-CD88E5B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5468-6B1B-42F3-B2F9-0E615AD7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807E-19EE-49BD-B26A-4F4BC69C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9E9E-60EF-4842-B626-38AB68F2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860-D7C6-4DAB-B3A2-C9BD1EF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F80-7DDD-40F3-8A37-7725D00D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5FD-0A45-4EDF-9835-BE76E6F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5CA-9A72-404D-B153-71FB90A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F84-D903-4535-854E-DA37204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AEC-AFFC-4A5F-B555-5EC846562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9E0-C337-44E4-BBEE-E57B9A7D3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DEE6-355F-40B2-BEB6-298A51A5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45F7-4D26-40E0-A390-FFD104991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E2AE-A007-4F9F-B9E1-2F74C7802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 Finally Makes Sense to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Internal Contro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and th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Why? Who? When? Where? Wha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Of Tes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Diagram 7" descr=""/>
          <p:cNvPicPr/>
          <p:nvPr/>
        </p:nvPicPr>
        <p:blipFill>
          <a:blip r:embed="rId1"/>
          <a:stretch/>
        </p:blipFill>
        <p:spPr>
          <a:xfrm>
            <a:off x="360360" y="1596960"/>
            <a:ext cx="8229600" cy="4919760"/>
          </a:xfrm>
          <a:prstGeom prst="rect">
            <a:avLst/>
          </a:prstGeom>
          <a:ln w="0">
            <a:noFill/>
          </a:ln>
        </p:spPr>
      </p:pic>
      <p:pic>
        <p:nvPicPr>
          <p:cNvPr id="197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Diagram 6" descr=""/>
          <p:cNvPicPr/>
          <p:nvPr/>
        </p:nvPicPr>
        <p:blipFill>
          <a:blip r:embed="rId1"/>
          <a:stretch/>
        </p:blipFill>
        <p:spPr>
          <a:xfrm>
            <a:off x="-6480" y="1749600"/>
            <a:ext cx="8669520" cy="3084480"/>
          </a:xfrm>
          <a:prstGeom prst="rect">
            <a:avLst/>
          </a:prstGeom>
          <a:ln w="0">
            <a:noFill/>
          </a:ln>
        </p:spPr>
      </p:pic>
      <p:pic>
        <p:nvPicPr>
          <p:cNvPr id="199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8" descr=""/>
          <p:cNvPicPr/>
          <p:nvPr/>
        </p:nvPicPr>
        <p:blipFill>
          <a:blip r:embed="rId1"/>
          <a:stretch/>
        </p:blipFill>
        <p:spPr>
          <a:xfrm>
            <a:off x="334800" y="2401920"/>
            <a:ext cx="8407440" cy="39798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  <p:pic>
        <p:nvPicPr>
          <p:cNvPr id="202" name="Diagram 7" descr=""/>
          <p:cNvPicPr/>
          <p:nvPr/>
        </p:nvPicPr>
        <p:blipFill>
          <a:blip r:embed="rId3"/>
          <a:stretch/>
        </p:blipFill>
        <p:spPr>
          <a:xfrm>
            <a:off x="249120" y="1212840"/>
            <a:ext cx="31593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23880" y="304920"/>
          <a:ext cx="6096240" cy="365040"/>
        </p:xfrm>
        <a:graphic>
          <a:graphicData uri="http://schemas.openxmlformats.org/drawingml/2006/table">
            <a:tbl>
              <a:tblPr/>
              <a:tblGrid>
                <a:gridCol w="2210040"/>
                <a:gridCol w="388620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NYS Dept. of Public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NTERNAL CONTROL TESTING FORM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523880" y="685800"/>
          <a:ext cx="6096240" cy="6019920"/>
        </p:xfrm>
        <a:graphic>
          <a:graphicData uri="http://schemas.openxmlformats.org/drawingml/2006/table">
            <a:tbl>
              <a:tblPr/>
              <a:tblGrid>
                <a:gridCol w="609840"/>
                <a:gridCol w="2387520"/>
                <a:gridCol w="3098880"/>
              </a:tblGrid>
              <a:tr h="612720"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ffic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unction: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1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4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Risk: 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To Test: 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40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88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Evaluation of Control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unctioning as Intended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Not functioning as Intended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New Control Need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rrective Action Planned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 Implemented or Planned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Test Performed By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irector or Chief Approval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ryl Ain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elly Taleporo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tie Mey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Office of Temporary and Dis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ren Ross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epartment of Public Serv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oderated 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itia Day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O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Divisions with an Internal Control Coordinator for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Control program revived in 2007-08.  Risk assessment conducted by program a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d Manager Testing (using DoB model) in 2008-09 cycle (testing protocols for high risk areas identifi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testing in current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 Testing – Division proposes testing protocols, which are reviewed and approved in Internal Control Certification process.  Actual testing occurs during following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Risk Areas – Test every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ate Risk Areas – Test every two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isk Areas – Test every three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testing are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wo positive testing cycles, testing may be extended by one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vision will be required to test 100% of its functions in one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s included as ongoing procedure will be exempt from testing require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Program inf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gram in place since law pa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has 4 staff – work on other project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5 Assessable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350 Major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 performed by managers as part of Manager’s Self-Assessmen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ontrols for each High &amp; Moderate risk function 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on completing forms, instructions and sample forms made available to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on the completed forms with suggestions of improvements provided to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219320"/>
          <a:ext cx="8229600" cy="511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ol Being Test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 Conducting the Test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 rowSpan="2"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hod of Test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  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_  Walk-through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 Talk with                    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_ Other: (Describe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Tes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 rowSpan="2"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equately Design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rovement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 Cost Effecti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 be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tilized as Intend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S Office of Temporary and Disability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FTE Internal Controls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aison in each program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 is more than 20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year, focus turned to testing (self-tes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user friendlier 2 page testin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dissemination/collection tool (Share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offerings of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llaboration with IA testing to validate ratings of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D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838080"/>
          <a:ext cx="8229600" cy="5515200"/>
        </p:xfrm>
        <a:graphic>
          <a:graphicData uri="http://schemas.openxmlformats.org/drawingml/2006/table">
            <a:tbl>
              <a:tblPr/>
              <a:tblGrid>
                <a:gridCol w="3110040"/>
                <a:gridCol w="1471320"/>
                <a:gridCol w="1052640"/>
                <a:gridCol w="2595600"/>
              </a:tblGrid>
              <a:tr h="163800">
                <a:tc gridSpan="4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Method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how you test the controls in this function to ensure that it is operating effectively and data produced is reliable.  If using reports from automated systems, identify the report(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mapping to identify control points; interview, observation, and docu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the process you use to document this test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the process for resolving identified weaknesses or opportunities to improve contro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was this function last test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did the test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esting document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urement Audit Report/ Internal Controls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any identified weakness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12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ve risk assessment not completed, aging  server w/o industry support, business continuity and disaster recovery plans tested(?), undated and unattributed policy and procedure documents, supervisory review and approval processes for the various types of payments is not uni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how these have been, or will be, corrected, and the actual or planned date of such correc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(name) is responsible for taking correctiv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will the function be tested nex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Remark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0:56:02Z</dcterms:created>
  <dc:creator>89q080</dc:creator>
  <dc:description/>
  <dc:language>en-US</dc:language>
  <cp:lastModifiedBy>kgardineer</cp:lastModifiedBy>
  <dcterms:modified xsi:type="dcterms:W3CDTF">2010-03-24T19:16:55Z</dcterms:modified>
  <cp:revision>29</cp:revision>
  <dc:subject/>
  <dc:title>It Finally Makes Sense to Me</dc:title>
</cp:coreProperties>
</file>